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79.png" ContentType="image/png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7.wmf" ContentType="image/x-wmf"/>
  <Override PartName="/ppt/media/image133.wmf" ContentType="image/x-wmf"/>
  <Override PartName="/ppt/media/image41.wmf" ContentType="image/x-wmf"/>
  <Override PartName="/ppt/media/image138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132.wmf" ContentType="image/x-wmf"/>
  <Override PartName="/ppt/media/image46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143.wmf" ContentType="image/x-wmf"/>
  <Override PartName="/ppt/media/image51.wmf" ContentType="image/x-wmf"/>
  <Override PartName="/ppt/media/image44.wmf" ContentType="image/x-wmf"/>
  <Override PartName="/ppt/media/image130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1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77.png" ContentType="image/png"/>
  <Override PartName="/ppt/media/image14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5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png" ContentType="image/png"/>
  <Override PartName="/ppt/media/image115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EE7E-5C38-48B2-AE6C-5A279D461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it helps to write the rule down before proc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it helps to write the rule down before proc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D67-8F90-4493-A823-634891E1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BE8-4ABE-4CAE-88DE-4816CA9C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54-39FE-495A-A532-76F9B303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BC8-818F-4900-A2B0-5A737A1C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128-5E68-4540-BE0B-C9F07B29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C7E-D301-4DD9-81EC-E0B042E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366-02B2-45F0-9BB8-45282D7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D8B-22F6-4F5D-8D65-2E2229EA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52C-A68D-4C90-AFB6-8274B044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AD4-6D89-4648-A7CD-9BE3BD4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3FF-FC2E-42F3-B21F-FFABD97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B12-2843-4205-B0CA-0229B32B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E53-2620-44A8-AD49-B845DB0C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0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7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76.wmf"/><Relationship Id="rId34" Type="http://schemas.openxmlformats.org/officeDocument/2006/relationships/image" Target="../media/image77.png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78.wmf"/><Relationship Id="rId37" Type="http://schemas.openxmlformats.org/officeDocument/2006/relationships/image" Target="../media/image79.png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80.wmf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8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1.wmf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7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7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9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0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9.wm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28560" y="673200"/>
            <a:ext cx="720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Trig Function 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700280"/>
            <a:ext cx="3673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99"/>
                </a:solidFill>
                <a:latin typeface="Times New Roman"/>
              </a:rPr>
              <a:t>The Derivatives of sin x &amp; c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1835280" y="3357720"/>
          <a:ext cx="5827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357720"/>
                    <a:ext cx="5827680" cy="8143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6553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C44-5C10-4307-83F9-D2A67FE31F17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381400" cy="3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Times New Roman"/>
              </a:rPr>
              <a:t>The derivative of sin </a:t>
            </a:r>
            <a:r>
              <a:rPr b="1" i="1" lang="en-US" sz="1800" spc="-1" strike="noStrike">
                <a:solidFill>
                  <a:srgbClr val="cc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861840" y="1438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2178000" y="1893960"/>
          <a:ext cx="384984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78000" y="1893960"/>
                    <a:ext cx="3849840" cy="1171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2316240" y="3498840"/>
          <a:ext cx="23112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6240" y="3498840"/>
                    <a:ext cx="23112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Object 4"/>
          <p:cNvGraphicFramePr/>
          <p:nvPr/>
        </p:nvGraphicFramePr>
        <p:xfrm>
          <a:off x="1089000" y="3689280"/>
          <a:ext cx="95256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89000" y="3689280"/>
                    <a:ext cx="9525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5"/>
          <p:cNvGraphicFramePr/>
          <p:nvPr/>
        </p:nvGraphicFramePr>
        <p:xfrm>
          <a:off x="4903920" y="3625920"/>
          <a:ext cx="160020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03920" y="3625920"/>
                    <a:ext cx="160020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Text Box 9"/>
          <p:cNvSpPr/>
          <p:nvPr/>
        </p:nvSpPr>
        <p:spPr>
          <a:xfrm>
            <a:off x="4933800" y="3157560"/>
            <a:ext cx="15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e-ar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6"/>
          <p:cNvGraphicFramePr/>
          <p:nvPr/>
        </p:nvGraphicFramePr>
        <p:xfrm>
          <a:off x="6778800" y="3537000"/>
          <a:ext cx="195552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78800" y="3537000"/>
                    <a:ext cx="1955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11"/>
          <p:cNvSpPr/>
          <p:nvPr/>
        </p:nvSpPr>
        <p:spPr>
          <a:xfrm>
            <a:off x="6653160" y="2811600"/>
            <a:ext cx="21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pply the     standar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7"/>
          <p:cNvGraphicFramePr/>
          <p:nvPr/>
        </p:nvGraphicFramePr>
        <p:xfrm>
          <a:off x="1042920" y="4422600"/>
          <a:ext cx="2374920" cy="1016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4422600"/>
                    <a:ext cx="2374920" cy="1016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3605040" y="4587840"/>
          <a:ext cx="2019600" cy="68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05040" y="4587840"/>
                    <a:ext cx="20196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748480" y="4562640"/>
          <a:ext cx="3301920" cy="73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48480" y="4562640"/>
                    <a:ext cx="3301920" cy="736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10"/>
          <p:cNvGraphicFramePr/>
          <p:nvPr/>
        </p:nvGraphicFramePr>
        <p:xfrm>
          <a:off x="5794200" y="5510160"/>
          <a:ext cx="185436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94200" y="5510160"/>
                    <a:ext cx="185436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4" name="Object 11"/>
          <p:cNvGraphicFramePr/>
          <p:nvPr/>
        </p:nvGraphicFramePr>
        <p:xfrm>
          <a:off x="2671920" y="5732640"/>
          <a:ext cx="2552400" cy="863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71920" y="5732640"/>
                    <a:ext cx="2552400" cy="8632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0" y="47628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133640" y="171360"/>
            <a:ext cx="39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          Trig  Function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61840" y="143352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5195880" y="171360"/>
            <a:ext cx="3719520" cy="2971800"/>
            <a:chOff x="5195880" y="171360"/>
            <a:chExt cx="3719520" cy="2971800"/>
          </a:xfrm>
        </p:grpSpPr>
        <p:graphicFrame>
          <p:nvGraphicFramePr>
            <p:cNvPr id="221" name="Object 7"/>
            <p:cNvGraphicFramePr/>
            <p:nvPr/>
          </p:nvGraphicFramePr>
          <p:xfrm>
            <a:off x="5205240" y="171360"/>
            <a:ext cx="3710160" cy="297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05240" y="171360"/>
                      <a:ext cx="3710160" cy="2971800"/>
                    </a:xfrm>
                    <a:prstGeom prst="rect">
                      <a:avLst/>
                    </a:prstGeom>
                    <a:ln w="7632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8"/>
            <p:cNvGraphicFramePr/>
            <p:nvPr/>
          </p:nvGraphicFramePr>
          <p:xfrm>
            <a:off x="7885080" y="291960"/>
            <a:ext cx="939600" cy="24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4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5080" y="291960"/>
                      <a:ext cx="9396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9"/>
            <p:cNvGraphicFramePr/>
            <p:nvPr/>
          </p:nvGraphicFramePr>
          <p:xfrm>
            <a:off x="6653160" y="261720"/>
            <a:ext cx="1066680" cy="304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Object 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53160" y="261720"/>
                      <a:ext cx="10666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0"/>
            <p:cNvGraphicFramePr/>
            <p:nvPr/>
          </p:nvGraphicFramePr>
          <p:xfrm>
            <a:off x="6721560" y="1518840"/>
            <a:ext cx="203040" cy="190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8" name="Object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721560" y="1518840"/>
                      <a:ext cx="203040" cy="1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1"/>
            <p:cNvGraphicFramePr/>
            <p:nvPr/>
          </p:nvGraphicFramePr>
          <p:xfrm>
            <a:off x="5452920" y="261720"/>
            <a:ext cx="114480" cy="228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0" name="Object 11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52920" y="261720"/>
                      <a:ext cx="1144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Object 12"/>
            <p:cNvGraphicFramePr/>
            <p:nvPr/>
          </p:nvGraphicFramePr>
          <p:xfrm>
            <a:off x="8643960" y="1800000"/>
            <a:ext cx="177840" cy="190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643960" y="1800000"/>
                      <a:ext cx="17784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5195880" y="201240"/>
            <a:ext cx="19044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95880" y="201240"/>
                      <a:ext cx="19044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Object 14"/>
            <p:cNvGraphicFramePr/>
            <p:nvPr/>
          </p:nvGraphicFramePr>
          <p:xfrm>
            <a:off x="5456160" y="2885760"/>
            <a:ext cx="291960" cy="2286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36" name="Object 14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456160" y="2885760"/>
                      <a:ext cx="291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Object 15"/>
            <p:cNvGraphicFramePr/>
            <p:nvPr/>
          </p:nvGraphicFramePr>
          <p:xfrm>
            <a:off x="5221080" y="1628640"/>
            <a:ext cx="165240" cy="241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38" name="Object 15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5221080" y="1628640"/>
                      <a:ext cx="16524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Text Box 15"/>
            <p:cNvSpPr/>
            <p:nvPr/>
          </p:nvSpPr>
          <p:spPr>
            <a:xfrm>
              <a:off x="6335640" y="21524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7"/>
          <p:cNvSpPr/>
          <p:nvPr/>
        </p:nvSpPr>
        <p:spPr>
          <a:xfrm>
            <a:off x="861840" y="1890720"/>
            <a:ext cx="42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diagram shows the graphs of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y = -sin x and y = cos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52560" y="2762280"/>
            <a:ext cx="41623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Find the coordinates of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Hence find the shaded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1042920" y="3835440"/>
          <a:ext cx="6153120" cy="317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42920" y="3835440"/>
                    <a:ext cx="6153120" cy="317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4" name="Object 3"/>
          <p:cNvGraphicFramePr/>
          <p:nvPr/>
        </p:nvGraphicFramePr>
        <p:xfrm>
          <a:off x="2773440" y="4343400"/>
          <a:ext cx="2171520" cy="361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773440" y="4343400"/>
                    <a:ext cx="2171520" cy="361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2139840" y="5695920"/>
          <a:ext cx="2805120" cy="301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39840" y="5695920"/>
                    <a:ext cx="2805120" cy="3016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1495440" y="5033880"/>
          <a:ext cx="1765440" cy="343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495440" y="5033880"/>
                    <a:ext cx="176544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50" name="Group 23"/>
          <p:cNvGrpSpPr/>
          <p:nvPr/>
        </p:nvGrpSpPr>
        <p:grpSpPr>
          <a:xfrm>
            <a:off x="5943600" y="3368520"/>
            <a:ext cx="3061800" cy="3317760"/>
            <a:chOff x="5943600" y="3368520"/>
            <a:chExt cx="3061800" cy="3317760"/>
          </a:xfrm>
        </p:grpSpPr>
        <p:sp>
          <p:nvSpPr>
            <p:cNvPr id="251" name="AutoShape 10"/>
            <p:cNvSpPr/>
            <p:nvPr/>
          </p:nvSpPr>
          <p:spPr>
            <a:xfrm>
              <a:off x="7034760" y="4363920"/>
              <a:ext cx="1445760" cy="13521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7858800" y="510696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2"/>
            <p:cNvSpPr/>
            <p:nvPr/>
          </p:nvSpPr>
          <p:spPr>
            <a:xfrm>
              <a:off x="7854480" y="458496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3"/>
            <p:cNvSpPr/>
            <p:nvPr/>
          </p:nvSpPr>
          <p:spPr>
            <a:xfrm>
              <a:off x="7255800" y="459252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4"/>
            <p:cNvSpPr/>
            <p:nvPr/>
          </p:nvSpPr>
          <p:spPr>
            <a:xfrm>
              <a:off x="7255800" y="5116320"/>
              <a:ext cx="4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5"/>
            <p:cNvSpPr/>
            <p:nvPr/>
          </p:nvSpPr>
          <p:spPr>
            <a:xfrm>
              <a:off x="8439120" y="4849920"/>
              <a:ext cx="5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6"/>
            <p:cNvSpPr/>
            <p:nvPr/>
          </p:nvSpPr>
          <p:spPr>
            <a:xfrm>
              <a:off x="6293160" y="477324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18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7"/>
            <p:cNvSpPr/>
            <p:nvPr/>
          </p:nvSpPr>
          <p:spPr>
            <a:xfrm>
              <a:off x="7343280" y="5716440"/>
              <a:ext cx="8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27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7430760" y="3930840"/>
              <a:ext cx="7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90</a:t>
              </a:r>
              <a:r>
                <a:rPr b="1" i="1" lang="en-US" sz="2400" spc="-1" strike="noStrike" baseline="40000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Object 9"/>
            <p:cNvGraphicFramePr/>
            <p:nvPr/>
          </p:nvGraphicFramePr>
          <p:xfrm>
            <a:off x="7636680" y="6145200"/>
            <a:ext cx="318960" cy="541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61" name="Object 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636680" y="6145200"/>
                      <a:ext cx="318960" cy="54108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0"/>
            <p:cNvGraphicFramePr/>
            <p:nvPr/>
          </p:nvGraphicFramePr>
          <p:xfrm>
            <a:off x="7693200" y="3368520"/>
            <a:ext cx="208800" cy="5410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63" name="Object 10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693200" y="3368520"/>
                      <a:ext cx="208800" cy="54108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6"/>
            <p:cNvGraphicFramePr/>
            <p:nvPr/>
          </p:nvGraphicFramePr>
          <p:xfrm>
            <a:off x="5943600" y="4858920"/>
            <a:ext cx="354240" cy="32472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65" name="Object 6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5943600" y="4858920"/>
                      <a:ext cx="354240" cy="324720"/>
                    </a:xfrm>
                    <a:prstGeom prst="rect">
                      <a:avLst/>
                    </a:prstGeom>
                    <a:ln w="2844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66" name="Picture 40" descr="TICK.jpg"/>
          <p:cNvPicPr/>
          <p:nvPr/>
        </p:nvPicPr>
        <p:blipFill>
          <a:blip r:embed="rId34"/>
          <a:stretch/>
        </p:blipFill>
        <p:spPr>
          <a:xfrm>
            <a:off x="6918480" y="4054320"/>
            <a:ext cx="87768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Object 6"/>
          <p:cNvGraphicFramePr/>
          <p:nvPr/>
        </p:nvGraphicFramePr>
        <p:xfrm>
          <a:off x="3395520" y="4896000"/>
          <a:ext cx="154944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395520" y="4896000"/>
                    <a:ext cx="15494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69" name="Picture 42" descr="TICK.jpg"/>
          <p:cNvPicPr/>
          <p:nvPr/>
        </p:nvPicPr>
        <p:blipFill>
          <a:blip r:embed="rId37"/>
          <a:stretch/>
        </p:blipFill>
        <p:spPr>
          <a:xfrm>
            <a:off x="7912080" y="4962600"/>
            <a:ext cx="884160" cy="877680"/>
          </a:xfrm>
          <a:prstGeom prst="rect">
            <a:avLst/>
          </a:prstGeom>
          <a:ln w="0">
            <a:noFill/>
          </a:ln>
        </p:spPr>
      </p:pic>
      <p:sp>
        <p:nvSpPr>
          <p:cNvPr id="270" name="Straight Connector 44"/>
          <p:cNvSpPr/>
          <p:nvPr/>
        </p:nvSpPr>
        <p:spPr>
          <a:xfrm>
            <a:off x="4390920" y="4786200"/>
            <a:ext cx="542880" cy="72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6"/>
          <p:cNvSpPr/>
          <p:nvPr/>
        </p:nvSpPr>
        <p:spPr>
          <a:xfrm flipH="1">
            <a:off x="4390920" y="4786200"/>
            <a:ext cx="633600" cy="72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6"/>
          <p:cNvGraphicFramePr/>
          <p:nvPr/>
        </p:nvGraphicFramePr>
        <p:xfrm>
          <a:off x="4132440" y="6188040"/>
          <a:ext cx="812520" cy="60948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132440" y="6188040"/>
                    <a:ext cx="812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0" y="47628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Trig  Functions (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13"/>
          <p:cNvGraphicFramePr/>
          <p:nvPr/>
        </p:nvGraphicFramePr>
        <p:xfrm>
          <a:off x="1177920" y="2130480"/>
          <a:ext cx="7647120" cy="4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130480"/>
                    <a:ext cx="7647120" cy="484200"/>
                  </a:xfrm>
                  <a:prstGeom prst="rect">
                    <a:avLst/>
                  </a:prstGeom>
                  <a:ln w="5724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8" name="Object 2"/>
          <p:cNvGraphicFramePr/>
          <p:nvPr/>
        </p:nvGraphicFramePr>
        <p:xfrm>
          <a:off x="1177920" y="3244680"/>
          <a:ext cx="3619440" cy="927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77920" y="3244680"/>
                    <a:ext cx="3619440" cy="927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0" name="Object 3"/>
          <p:cNvGraphicFramePr/>
          <p:nvPr/>
        </p:nvGraphicFramePr>
        <p:xfrm>
          <a:off x="5359320" y="3244680"/>
          <a:ext cx="2108160" cy="92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59320" y="3244680"/>
                    <a:ext cx="2108160" cy="927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2" name="Object 4"/>
          <p:cNvGraphicFramePr/>
          <p:nvPr/>
        </p:nvGraphicFramePr>
        <p:xfrm>
          <a:off x="1177920" y="4599000"/>
          <a:ext cx="952560" cy="30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7920" y="4599000"/>
                    <a:ext cx="9525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4" name="Object 5"/>
          <p:cNvGraphicFramePr/>
          <p:nvPr/>
        </p:nvGraphicFramePr>
        <p:xfrm>
          <a:off x="2389320" y="4535640"/>
          <a:ext cx="227304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89320" y="4535640"/>
                    <a:ext cx="227304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6" name="Object 6"/>
          <p:cNvGraphicFramePr/>
          <p:nvPr/>
        </p:nvGraphicFramePr>
        <p:xfrm>
          <a:off x="4815000" y="4567320"/>
          <a:ext cx="2547720" cy="368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15000" y="4567320"/>
                    <a:ext cx="2547720" cy="368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Object 7"/>
          <p:cNvGraphicFramePr/>
          <p:nvPr/>
        </p:nvGraphicFramePr>
        <p:xfrm>
          <a:off x="1177920" y="5307120"/>
          <a:ext cx="3276720" cy="927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9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77920" y="5307120"/>
                    <a:ext cx="3276720" cy="927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0" name="Object 8"/>
          <p:cNvGraphicFramePr/>
          <p:nvPr/>
        </p:nvGraphicFramePr>
        <p:xfrm>
          <a:off x="4871880" y="5427720"/>
          <a:ext cx="170208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1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71880" y="5427720"/>
                    <a:ext cx="170208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0" y="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grating Trig  Functions (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8"/>
          <p:cNvGraphicFramePr/>
          <p:nvPr/>
        </p:nvGraphicFramePr>
        <p:xfrm>
          <a:off x="1503360" y="2162160"/>
          <a:ext cx="17017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3360" y="2162160"/>
                    <a:ext cx="170172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6" name="Object 9"/>
          <p:cNvGraphicFramePr/>
          <p:nvPr/>
        </p:nvGraphicFramePr>
        <p:xfrm>
          <a:off x="1503360" y="3105000"/>
          <a:ext cx="41148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3360" y="3105000"/>
                    <a:ext cx="411480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8" name="Object 10"/>
          <p:cNvGraphicFramePr/>
          <p:nvPr/>
        </p:nvGraphicFramePr>
        <p:xfrm>
          <a:off x="5845320" y="3105000"/>
          <a:ext cx="26920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45320" y="3105000"/>
                    <a:ext cx="269208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Object 11"/>
          <p:cNvGraphicFramePr/>
          <p:nvPr/>
        </p:nvGraphicFramePr>
        <p:xfrm>
          <a:off x="1503360" y="4075200"/>
          <a:ext cx="1981080" cy="711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03360" y="4075200"/>
                    <a:ext cx="1981080" cy="711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Object 12"/>
          <p:cNvGraphicFramePr/>
          <p:nvPr/>
        </p:nvGraphicFramePr>
        <p:xfrm>
          <a:off x="1503360" y="5084640"/>
          <a:ext cx="2340000" cy="48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03360" y="5084640"/>
                    <a:ext cx="2340000" cy="487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861840" y="1433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2"/>
          <p:cNvGraphicFramePr/>
          <p:nvPr/>
        </p:nvGraphicFramePr>
        <p:xfrm>
          <a:off x="973080" y="2055960"/>
          <a:ext cx="776124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3080" y="2055960"/>
                    <a:ext cx="776124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8" name="Object 3"/>
          <p:cNvGraphicFramePr/>
          <p:nvPr/>
        </p:nvGraphicFramePr>
        <p:xfrm>
          <a:off x="982800" y="2544840"/>
          <a:ext cx="26287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82800" y="2544840"/>
                    <a:ext cx="262872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Object 4"/>
          <p:cNvGraphicFramePr/>
          <p:nvPr/>
        </p:nvGraphicFramePr>
        <p:xfrm>
          <a:off x="961920" y="3336840"/>
          <a:ext cx="4876920" cy="36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61920" y="3336840"/>
                    <a:ext cx="4876920" cy="3636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2" name="Object 5"/>
          <p:cNvGraphicFramePr/>
          <p:nvPr/>
        </p:nvGraphicFramePr>
        <p:xfrm>
          <a:off x="2490840" y="4062240"/>
          <a:ext cx="458460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90840" y="4062240"/>
                    <a:ext cx="4584600" cy="343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4" name="Object 6"/>
          <p:cNvGraphicFramePr/>
          <p:nvPr/>
        </p:nvGraphicFramePr>
        <p:xfrm>
          <a:off x="2490840" y="4610160"/>
          <a:ext cx="403848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90840" y="4610160"/>
                    <a:ext cx="4038480" cy="342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2490840" y="5157720"/>
          <a:ext cx="2425680" cy="29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90840" y="5157720"/>
                    <a:ext cx="2425680" cy="2923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8" name="Object 8"/>
          <p:cNvGraphicFramePr/>
          <p:nvPr/>
        </p:nvGraphicFramePr>
        <p:xfrm>
          <a:off x="2490840" y="5654520"/>
          <a:ext cx="3060720" cy="43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90840" y="5654520"/>
                    <a:ext cx="3060720" cy="432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0" name="Object 9"/>
          <p:cNvGraphicFramePr/>
          <p:nvPr/>
        </p:nvGraphicFramePr>
        <p:xfrm>
          <a:off x="2490840" y="6291360"/>
          <a:ext cx="3678120" cy="395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90840" y="6291360"/>
                    <a:ext cx="3678120" cy="3952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Text Box 4"/>
          <p:cNvSpPr/>
          <p:nvPr/>
        </p:nvSpPr>
        <p:spPr>
          <a:xfrm>
            <a:off x="1133640" y="623880"/>
            <a:ext cx="60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Trig 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 17"/>
          <p:cNvSpPr/>
          <p:nvPr/>
        </p:nvSpPr>
        <p:spPr>
          <a:xfrm>
            <a:off x="5929200" y="2343240"/>
            <a:ext cx="2853000" cy="1266480"/>
          </a:xfrm>
          <a:prstGeom prst="pie">
            <a:avLst/>
          </a:prstGeom>
          <a:solidFill>
            <a:srgbClr val="4d4d4d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member cos(x + y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2"/>
          <p:cNvGraphicFramePr/>
          <p:nvPr/>
        </p:nvGraphicFramePr>
        <p:xfrm>
          <a:off x="1130400" y="2071800"/>
          <a:ext cx="5964120" cy="36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0400" y="2071800"/>
                    <a:ext cx="5964120" cy="361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7" name="Object 3"/>
          <p:cNvGraphicFramePr/>
          <p:nvPr/>
        </p:nvGraphicFramePr>
        <p:xfrm>
          <a:off x="1224000" y="2913120"/>
          <a:ext cx="345420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0" y="2913120"/>
                    <a:ext cx="3454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1224000" y="3857760"/>
          <a:ext cx="405144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4000" y="3857760"/>
                    <a:ext cx="40514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573880" y="3857760"/>
          <a:ext cx="252720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73880" y="3857760"/>
                    <a:ext cx="25272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Object 6"/>
          <p:cNvGraphicFramePr/>
          <p:nvPr/>
        </p:nvGraphicFramePr>
        <p:xfrm>
          <a:off x="1217520" y="4734000"/>
          <a:ext cx="534672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4734000"/>
                    <a:ext cx="534672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5" name="Object 7"/>
          <p:cNvGraphicFramePr/>
          <p:nvPr/>
        </p:nvGraphicFramePr>
        <p:xfrm>
          <a:off x="2658960" y="5805360"/>
          <a:ext cx="375948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58960" y="5805360"/>
                    <a:ext cx="375948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7" name="Text Box 4"/>
          <p:cNvSpPr/>
          <p:nvPr/>
        </p:nvSpPr>
        <p:spPr>
          <a:xfrm>
            <a:off x="0" y="0"/>
            <a:ext cx="60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grating Trig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896760" y="143820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2"/>
          <p:cNvGraphicFramePr/>
          <p:nvPr/>
        </p:nvGraphicFramePr>
        <p:xfrm>
          <a:off x="1455840" y="2013120"/>
          <a:ext cx="6554520" cy="51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2013120"/>
                    <a:ext cx="6554520" cy="510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2249640" y="3427560"/>
          <a:ext cx="24127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49640" y="3427560"/>
                    <a:ext cx="2412720" cy="457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4" name="Text Box 7"/>
          <p:cNvSpPr/>
          <p:nvPr/>
        </p:nvSpPr>
        <p:spPr>
          <a:xfrm>
            <a:off x="4632480" y="264312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se the “reverse” cha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4830840" y="3255840"/>
          <a:ext cx="2324160" cy="80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30840" y="3255840"/>
                    <a:ext cx="2324160" cy="800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7288200" y="3254400"/>
          <a:ext cx="1717560" cy="801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88200" y="3254400"/>
                    <a:ext cx="1717560" cy="801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9" name="Text Box 10"/>
          <p:cNvSpPr/>
          <p:nvPr/>
        </p:nvSpPr>
        <p:spPr>
          <a:xfrm>
            <a:off x="861840" y="415296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o we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1224000" y="4584600"/>
          <a:ext cx="3390840" cy="71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24000" y="4584600"/>
                    <a:ext cx="3390840" cy="711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Object 7"/>
          <p:cNvGraphicFramePr/>
          <p:nvPr/>
        </p:nvGraphicFramePr>
        <p:xfrm>
          <a:off x="4794120" y="4597560"/>
          <a:ext cx="1193760" cy="684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94120" y="4597560"/>
                    <a:ext cx="1193760" cy="684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4" name="Object 8"/>
          <p:cNvGraphicFramePr/>
          <p:nvPr/>
        </p:nvGraphicFramePr>
        <p:xfrm>
          <a:off x="6167520" y="4575240"/>
          <a:ext cx="1350720" cy="72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67520" y="4575240"/>
                    <a:ext cx="1350720" cy="728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Text Box 14"/>
          <p:cNvSpPr/>
          <p:nvPr/>
        </p:nvSpPr>
        <p:spPr>
          <a:xfrm>
            <a:off x="1084320" y="5500800"/>
            <a:ext cx="11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7697880" y="4575240"/>
          <a:ext cx="1047600" cy="728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7880" y="4575240"/>
                    <a:ext cx="1047600" cy="728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9" name="Object 10"/>
          <p:cNvGraphicFramePr/>
          <p:nvPr/>
        </p:nvGraphicFramePr>
        <p:xfrm>
          <a:off x="1254240" y="6019920"/>
          <a:ext cx="248904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0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54240" y="6019920"/>
                    <a:ext cx="248904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Object 12"/>
          <p:cNvGraphicFramePr/>
          <p:nvPr/>
        </p:nvGraphicFramePr>
        <p:xfrm>
          <a:off x="3882960" y="6019920"/>
          <a:ext cx="2408400" cy="639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82960" y="6019920"/>
                    <a:ext cx="2408400" cy="6397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3" name="Text Box 4"/>
          <p:cNvSpPr/>
          <p:nvPr/>
        </p:nvSpPr>
        <p:spPr>
          <a:xfrm>
            <a:off x="1133640" y="623880"/>
            <a:ext cx="60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46240" y="911160"/>
            <a:ext cx="8456400" cy="3549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80960" y="1581120"/>
            <a:ext cx="4248360" cy="26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960" y="1027080"/>
            <a:ext cx="639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shaded area shown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1944720" y="1712880"/>
            <a:ext cx="0" cy="227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30440" y="16509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11360" y="2973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08320" y="2131920"/>
            <a:ext cx="1728720" cy="1568520"/>
          </a:xfrm>
          <a:custGeom>
            <a:avLst/>
            <a:gdLst/>
            <a:ahLst/>
            <a:rect l="l" t="t" r="r" b="b"/>
            <a:pathLst>
              <a:path w="1089" h="988">
                <a:moveTo>
                  <a:pt x="0" y="199"/>
                </a:moveTo>
                <a:lnTo>
                  <a:pt x="52" y="127"/>
                </a:lnTo>
                <a:lnTo>
                  <a:pt x="108" y="75"/>
                </a:lnTo>
                <a:lnTo>
                  <a:pt x="175" y="25"/>
                </a:lnTo>
                <a:lnTo>
                  <a:pt x="214" y="10"/>
                </a:lnTo>
                <a:lnTo>
                  <a:pt x="277" y="0"/>
                </a:lnTo>
                <a:lnTo>
                  <a:pt x="312" y="4"/>
                </a:lnTo>
                <a:lnTo>
                  <a:pt x="358" y="24"/>
                </a:lnTo>
                <a:lnTo>
                  <a:pt x="420" y="63"/>
                </a:lnTo>
                <a:lnTo>
                  <a:pt x="481" y="124"/>
                </a:lnTo>
                <a:lnTo>
                  <a:pt x="565" y="214"/>
                </a:lnTo>
                <a:lnTo>
                  <a:pt x="712" y="405"/>
                </a:lnTo>
                <a:lnTo>
                  <a:pt x="852" y="556"/>
                </a:lnTo>
                <a:lnTo>
                  <a:pt x="1089" y="846"/>
                </a:lnTo>
                <a:lnTo>
                  <a:pt x="1035" y="900"/>
                </a:lnTo>
                <a:lnTo>
                  <a:pt x="954" y="955"/>
                </a:lnTo>
                <a:lnTo>
                  <a:pt x="871" y="988"/>
                </a:lnTo>
                <a:lnTo>
                  <a:pt x="748" y="966"/>
                </a:lnTo>
                <a:lnTo>
                  <a:pt x="625" y="894"/>
                </a:lnTo>
                <a:lnTo>
                  <a:pt x="529" y="808"/>
                </a:lnTo>
                <a:lnTo>
                  <a:pt x="439" y="715"/>
                </a:lnTo>
                <a:lnTo>
                  <a:pt x="334" y="601"/>
                </a:lnTo>
                <a:lnTo>
                  <a:pt x="219" y="463"/>
                </a:lnTo>
                <a:lnTo>
                  <a:pt x="121" y="340"/>
                </a:lnTo>
                <a:lnTo>
                  <a:pt x="0" y="199"/>
                </a:lnTo>
                <a:close/>
              </a:path>
            </a:pathLst>
          </a:custGeom>
          <a:solidFill>
            <a:srgbClr val="c9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92280" y="3025800"/>
            <a:ext cx="391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47960" y="1798560"/>
            <a:ext cx="14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 = √3 sin 2</a:t>
            </a:r>
            <a:r>
              <a:rPr b="1" i="1" lang="en-US" sz="1800" spc="-1" strike="noStrike">
                <a:solidFill>
                  <a:srgbClr val="3399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640" y="3686040"/>
            <a:ext cx="12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= cos 2</a:t>
            </a:r>
            <a:r>
              <a:rPr b="1" i="1" lang="en-US" sz="18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52640" y="2133720"/>
            <a:ext cx="3333600" cy="1681200"/>
          </a:xfrm>
          <a:custGeom>
            <a:avLst/>
            <a:gdLst/>
            <a:ahLst/>
            <a:rect l="l" t="t" r="r" b="b"/>
            <a:pathLst>
              <a:path w="2070" h="1059">
                <a:moveTo>
                  <a:pt x="0" y="528"/>
                </a:moveTo>
                <a:cubicBezTo>
                  <a:pt x="160" y="264"/>
                  <a:pt x="320" y="0"/>
                  <a:pt x="492" y="0"/>
                </a:cubicBezTo>
                <a:cubicBezTo>
                  <a:pt x="664" y="0"/>
                  <a:pt x="853" y="352"/>
                  <a:pt x="1032" y="528"/>
                </a:cubicBezTo>
                <a:cubicBezTo>
                  <a:pt x="1211" y="704"/>
                  <a:pt x="1393" y="1053"/>
                  <a:pt x="1566" y="1056"/>
                </a:cubicBezTo>
                <a:cubicBezTo>
                  <a:pt x="1739" y="1059"/>
                  <a:pt x="1940" y="724"/>
                  <a:pt x="2070" y="546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62000" y="2209680"/>
            <a:ext cx="3219480" cy="1486080"/>
            <a:chOff x="1962000" y="2209680"/>
            <a:chExt cx="3219480" cy="1486080"/>
          </a:xfrm>
        </p:grpSpPr>
        <p:sp>
          <p:nvSpPr>
            <p:cNvPr id="378" name=""/>
            <p:cNvSpPr/>
            <p:nvPr/>
          </p:nvSpPr>
          <p:spPr>
            <a:xfrm>
              <a:off x="2724120" y="2209680"/>
              <a:ext cx="2457360" cy="1486080"/>
            </a:xfrm>
            <a:custGeom>
              <a:avLst/>
              <a:gdLst/>
              <a:ahLst/>
              <a:rect l="l" t="t" r="r" b="b"/>
              <a:pathLst>
                <a:path w="1524" h="936">
                  <a:moveTo>
                    <a:pt x="0" y="474"/>
                  </a:moveTo>
                  <a:cubicBezTo>
                    <a:pt x="200" y="705"/>
                    <a:pt x="401" y="936"/>
                    <a:pt x="582" y="936"/>
                  </a:cubicBezTo>
                  <a:cubicBezTo>
                    <a:pt x="763" y="936"/>
                    <a:pt x="929" y="630"/>
                    <a:pt x="1086" y="474"/>
                  </a:cubicBezTo>
                  <a:cubicBezTo>
                    <a:pt x="1243" y="318"/>
                    <a:pt x="1410" y="38"/>
                    <a:pt x="1524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2000" y="2271600"/>
              <a:ext cx="77184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516" y="441"/>
                  </a:moveTo>
                  <a:cubicBezTo>
                    <a:pt x="336" y="220"/>
                    <a:pt x="157" y="0"/>
                    <a:pt x="0" y="3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798640" y="2516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1200" y="4559400"/>
            <a:ext cx="8637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irst we need to find the points where √3 sin2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cos2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ter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9320" y="5181480"/>
            <a:ext cx="24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√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 sin2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cos2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819440" y="5735520"/>
          <a:ext cx="1574640" cy="78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9440" y="5735520"/>
                    <a:ext cx="15746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571920" y="5694480"/>
          <a:ext cx="2158920" cy="78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920" y="5694480"/>
                    <a:ext cx="21589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593640" y="922320"/>
          <a:ext cx="1790640" cy="7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640" y="922320"/>
                    <a:ext cx="1790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486160" y="1138320"/>
          <a:ext cx="1790640" cy="33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6160" y="1138320"/>
                    <a:ext cx="1790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99960" y="1897200"/>
          <a:ext cx="2336760" cy="3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960" y="1897200"/>
                    <a:ext cx="2336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550960" y="3814920"/>
          <a:ext cx="3683160" cy="60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0960" y="3814920"/>
                    <a:ext cx="3683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550960" y="5584680"/>
          <a:ext cx="2629080" cy="3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0960" y="5584680"/>
                    <a:ext cx="2629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550960" y="6048360"/>
          <a:ext cx="1282680" cy="34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50960" y="6048360"/>
                    <a:ext cx="1282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2550960" y="4435560"/>
          <a:ext cx="3441960" cy="62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50960" y="4435560"/>
                    <a:ext cx="3441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52440" y="24400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Remembering that the area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between two curves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 and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263680" y="3225960"/>
          <a:ext cx="2832120" cy="596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3680" y="3225960"/>
                    <a:ext cx="28321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550960" y="5054760"/>
          <a:ext cx="6223320" cy="444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50960" y="5054760"/>
                    <a:ext cx="62233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2759040" y="178920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o the boundaries ar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15 a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1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46240" y="911160"/>
            <a:ext cx="8456400" cy="26352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7680" y="1684440"/>
            <a:ext cx="8456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the coordinates of any stationary points and determine their natu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etch the cur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7680" y="1160640"/>
            <a:ext cx="845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that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935000" y="1085760"/>
          <a:ext cx="22482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085760"/>
                    <a:ext cx="2248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250920" y="375768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) Using the chain rule in the 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384280" y="4919760"/>
          <a:ext cx="348012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4280" y="4919760"/>
                    <a:ext cx="3480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162240" y="5506920"/>
          <a:ext cx="336564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2240" y="5506920"/>
                    <a:ext cx="3365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0" name=""/>
          <p:cNvGrpSpPr/>
          <p:nvPr/>
        </p:nvGrpSpPr>
        <p:grpSpPr>
          <a:xfrm>
            <a:off x="1983960" y="4108320"/>
            <a:ext cx="5180400" cy="736560"/>
            <a:chOff x="1983960" y="4108320"/>
            <a:chExt cx="5180400" cy="736560"/>
          </a:xfrm>
        </p:grpSpPr>
        <p:sp>
          <p:nvSpPr>
            <p:cNvPr id="421" name=""/>
            <p:cNvSpPr/>
            <p:nvPr/>
          </p:nvSpPr>
          <p:spPr>
            <a:xfrm>
              <a:off x="1983960" y="4248000"/>
              <a:ext cx="23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=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))</a:t>
              </a:r>
              <a:r>
                <a:rPr b="0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th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4332240" y="4108320"/>
            <a:ext cx="283212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32240" y="4108320"/>
                      <a:ext cx="28321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4" name=""/>
          <p:cNvGraphicFramePr/>
          <p:nvPr/>
        </p:nvGraphicFramePr>
        <p:xfrm>
          <a:off x="3181320" y="6081840"/>
          <a:ext cx="3645000" cy="34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81320" y="6081840"/>
                    <a:ext cx="3645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11200" y="642960"/>
            <a:ext cx="73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57280" y="2054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y “reversing” the Chain Rule we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2444760" y="2779560"/>
          <a:ext cx="457848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760" y="2779560"/>
                    <a:ext cx="4578480" cy="11019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Text Box 9"/>
          <p:cNvSpPr/>
          <p:nvPr/>
        </p:nvSpPr>
        <p:spPr>
          <a:xfrm>
            <a:off x="855720" y="44197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1014480" y="5072040"/>
          <a:ext cx="2771640" cy="6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4480" y="5072040"/>
                    <a:ext cx="2771640" cy="695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6667560" y="4967280"/>
          <a:ext cx="2111400" cy="90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67560" y="4967280"/>
                    <a:ext cx="2111400" cy="9050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" name="Object 2"/>
          <p:cNvGraphicFramePr/>
          <p:nvPr/>
        </p:nvGraphicFramePr>
        <p:xfrm>
          <a:off x="3992400" y="4967280"/>
          <a:ext cx="2467080" cy="90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2400" y="4967280"/>
                    <a:ext cx="2467080" cy="9050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6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50920" y="10112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Wh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281400" y="3181320"/>
          <a:ext cx="23493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1400" y="3181320"/>
                    <a:ext cx="2349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243360" y="365292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–2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3720" y="416736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–1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–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50920" y="5129280"/>
            <a:ext cx="8637480" cy="915840"/>
            <a:chOff x="250920" y="5129280"/>
            <a:chExt cx="8637480" cy="915840"/>
          </a:xfrm>
        </p:grpSpPr>
        <p:sp>
          <p:nvSpPr>
            <p:cNvPr id="433" name=""/>
            <p:cNvSpPr/>
            <p:nvPr/>
          </p:nvSpPr>
          <p:spPr>
            <a:xfrm>
              <a:off x="250920" y="5219640"/>
              <a:ext cx="863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herefore, the graph of the function                           has turning points at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–2, 0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–1, –1)</a:t>
              </a: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GB" sz="2400" spc="-1" strike="noStrike">
                  <a:solidFill>
                    <a:srgbClr val="ff6600"/>
                  </a:solidFill>
                  <a:latin typeface="Arial"/>
                </a:rPr>
                <a:t>(0, 0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5153040" y="5129280"/>
            <a:ext cx="223524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3040" y="5129280"/>
                      <a:ext cx="22352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3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2978280" y="1042920"/>
          <a:ext cx="299700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8280" y="1042920"/>
                    <a:ext cx="2997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156120" y="1576440"/>
          <a:ext cx="28191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56120" y="1576440"/>
                    <a:ext cx="2819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092400" y="2111400"/>
          <a:ext cx="2882880" cy="39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92400" y="2111400"/>
                    <a:ext cx="2882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181320" y="2646360"/>
          <a:ext cx="2793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81320" y="2646360"/>
                    <a:ext cx="2793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243000" y="4681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0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0920" y="9270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92680" y="32274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2, 0) is a falling point of inf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24000" y="1446120"/>
            <a:ext cx="8424720" cy="1724040"/>
            <a:chOff x="324000" y="1446120"/>
            <a:chExt cx="8424720" cy="1724040"/>
          </a:xfrm>
        </p:grpSpPr>
        <p:sp>
          <p:nvSpPr>
            <p:cNvPr id="450" name=""/>
            <p:cNvSpPr/>
            <p:nvPr/>
          </p:nvSpPr>
          <p:spPr>
            <a:xfrm>
              <a:off x="324000" y="1446120"/>
              <a:ext cx="3240000" cy="43200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5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2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9416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21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4000" y="187308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5" name=""/>
            <p:cNvGraphicFramePr/>
            <p:nvPr/>
          </p:nvGraphicFramePr>
          <p:xfrm>
            <a:off x="2187720" y="2090880"/>
            <a:ext cx="711000" cy="35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87720" y="2090880"/>
                      <a:ext cx="71100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7" name=""/>
            <p:cNvSpPr/>
            <p:nvPr/>
          </p:nvSpPr>
          <p:spPr>
            <a:xfrm>
              <a:off x="3564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91280" y="187308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20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000" y="266544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4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91280" y="266544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20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50920" y="371628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5400" y="60548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–1, –1) is a minim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24000" y="4268880"/>
            <a:ext cx="8424720" cy="1728720"/>
            <a:chOff x="324000" y="4268880"/>
            <a:chExt cx="8424720" cy="1728720"/>
          </a:xfrm>
        </p:grpSpPr>
        <p:sp>
          <p:nvSpPr>
            <p:cNvPr id="467" name=""/>
            <p:cNvSpPr/>
            <p:nvPr/>
          </p:nvSpPr>
          <p:spPr>
            <a:xfrm>
              <a:off x="324000" y="4268880"/>
              <a:ext cx="3240000" cy="43164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6544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9416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21440" y="4268880"/>
              <a:ext cx="1727280" cy="43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4000" y="470052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2" name=""/>
            <p:cNvGraphicFramePr/>
            <p:nvPr/>
          </p:nvGraphicFramePr>
          <p:xfrm>
            <a:off x="2187720" y="4917960"/>
            <a:ext cx="71100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720" y="4917960"/>
                      <a:ext cx="711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4" name=""/>
            <p:cNvSpPr/>
            <p:nvPr/>
          </p:nvSpPr>
          <p:spPr>
            <a:xfrm>
              <a:off x="3564000" y="470052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91280" y="470052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20000" y="470052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000" y="549288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64000" y="549288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91280" y="549288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20000" y="549288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497720" y="2736720"/>
            <a:ext cx="7192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31800" y="2662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96000" y="27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0120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39520" y="2681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4040280" y="2763360"/>
            <a:ext cx="681120" cy="2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91280" y="187308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20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4000" y="470052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91280" y="470052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0000" y="470052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5564160"/>
            <a:ext cx="71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01360" y="5489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5877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012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04320" y="54896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22920" y="5564160"/>
            <a:ext cx="71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0"/>
            <a:ext cx="457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1702080" y="3930480"/>
            <a:ext cx="3117240" cy="2393640"/>
            <a:chOff x="1702080" y="3930480"/>
            <a:chExt cx="3117240" cy="2393640"/>
          </a:xfrm>
        </p:grpSpPr>
        <p:grpSp>
          <p:nvGrpSpPr>
            <p:cNvPr id="502" name=""/>
            <p:cNvGrpSpPr/>
            <p:nvPr/>
          </p:nvGrpSpPr>
          <p:grpSpPr>
            <a:xfrm>
              <a:off x="3063960" y="3933720"/>
              <a:ext cx="1755360" cy="2390400"/>
              <a:chOff x="3063960" y="3933720"/>
              <a:chExt cx="1755360" cy="2390400"/>
            </a:xfrm>
          </p:grpSpPr>
          <p:sp>
            <p:nvSpPr>
              <p:cNvPr id="503" name=""/>
              <p:cNvSpPr/>
              <p:nvPr/>
            </p:nvSpPr>
            <p:spPr>
              <a:xfrm>
                <a:off x="3983760" y="3933720"/>
                <a:ext cx="835560" cy="1525680"/>
              </a:xfrm>
              <a:custGeom>
                <a:avLst/>
                <a:gdLst/>
                <a:ahLst/>
                <a:rect l="l" t="t" r="r" b="b"/>
                <a:pathLst>
                  <a:path w="480" h="984">
                    <a:moveTo>
                      <a:pt x="480" y="0"/>
                    </a:moveTo>
                    <a:cubicBezTo>
                      <a:pt x="387" y="483"/>
                      <a:pt x="295" y="966"/>
                      <a:pt x="0" y="98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03160" y="5459400"/>
                <a:ext cx="469800" cy="557640"/>
              </a:xfrm>
              <a:custGeom>
                <a:avLst/>
                <a:gdLst/>
                <a:ahLst/>
                <a:rect l="l" t="t" r="r" b="b"/>
                <a:pathLst>
                  <a:path w="300" h="408">
                    <a:moveTo>
                      <a:pt x="0" y="408"/>
                    </a:moveTo>
                    <a:cubicBezTo>
                      <a:pt x="66" y="209"/>
                      <a:pt x="132" y="10"/>
                      <a:pt x="300" y="0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63960" y="5924520"/>
                <a:ext cx="470160" cy="399600"/>
              </a:xfrm>
              <a:custGeom>
                <a:avLst/>
                <a:gdLst/>
                <a:ahLst/>
                <a:rect l="l" t="t" r="r" b="b"/>
                <a:pathLst>
                  <a:path w="270" h="324">
                    <a:moveTo>
                      <a:pt x="270" y="0"/>
                    </a:moveTo>
                    <a:cubicBezTo>
                      <a:pt x="230" y="157"/>
                      <a:pt x="191" y="314"/>
                      <a:pt x="0" y="32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702080" y="3930480"/>
              <a:ext cx="1400040" cy="2390760"/>
              <a:chOff x="1702080" y="3930480"/>
              <a:chExt cx="1400040" cy="23907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1701720" y="3930480"/>
                <a:ext cx="666360" cy="1526040"/>
              </a:xfrm>
              <a:custGeom>
                <a:avLst/>
                <a:gdLst/>
                <a:ahLst/>
                <a:rect l="l" t="t" r="r" b="b"/>
                <a:pathLst>
                  <a:path w="480" h="984">
                    <a:moveTo>
                      <a:pt x="480" y="0"/>
                    </a:moveTo>
                    <a:cubicBezTo>
                      <a:pt x="387" y="483"/>
                      <a:pt x="295" y="966"/>
                      <a:pt x="0" y="98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376720" y="5456520"/>
                <a:ext cx="374760" cy="558000"/>
              </a:xfrm>
              <a:custGeom>
                <a:avLst/>
                <a:gdLst/>
                <a:ahLst/>
                <a:rect l="l" t="t" r="r" b="b"/>
                <a:pathLst>
                  <a:path w="300" h="408">
                    <a:moveTo>
                      <a:pt x="0" y="408"/>
                    </a:moveTo>
                    <a:cubicBezTo>
                      <a:pt x="66" y="209"/>
                      <a:pt x="132" y="10"/>
                      <a:pt x="300" y="0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727000" y="5921640"/>
                <a:ext cx="375120" cy="399600"/>
              </a:xfrm>
              <a:custGeom>
                <a:avLst/>
                <a:gdLst/>
                <a:ahLst/>
                <a:rect l="l" t="t" r="r" b="b"/>
                <a:pathLst>
                  <a:path w="270" h="324">
                    <a:moveTo>
                      <a:pt x="270" y="0"/>
                    </a:moveTo>
                    <a:cubicBezTo>
                      <a:pt x="230" y="157"/>
                      <a:pt x="191" y="314"/>
                      <a:pt x="0" y="324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Examination-style 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0920" y="380196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797360" y="3890880"/>
          <a:ext cx="200664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3890880"/>
                    <a:ext cx="2006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8388360" y="5950080"/>
            <a:ext cx="755640" cy="71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0920" y="92700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at the gradient just before and just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1040" y="317988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(0, 0) is a rising point of infl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24000" y="1446120"/>
            <a:ext cx="8424720" cy="1724040"/>
            <a:chOff x="324000" y="1446120"/>
            <a:chExt cx="8424720" cy="1724040"/>
          </a:xfrm>
        </p:grpSpPr>
        <p:sp>
          <p:nvSpPr>
            <p:cNvPr id="518" name=""/>
            <p:cNvSpPr/>
            <p:nvPr/>
          </p:nvSpPr>
          <p:spPr>
            <a:xfrm>
              <a:off x="324000" y="1446120"/>
              <a:ext cx="3240000" cy="43200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65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–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416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21440" y="1446120"/>
              <a:ext cx="1727280" cy="43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4000" y="1873080"/>
              <a:ext cx="3240000" cy="79236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       </a:t>
              </a: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Valu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3" name=""/>
            <p:cNvGraphicFramePr/>
            <p:nvPr/>
          </p:nvGraphicFramePr>
          <p:xfrm>
            <a:off x="2187720" y="2090880"/>
            <a:ext cx="711000" cy="35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7720" y="2090880"/>
                      <a:ext cx="71100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5" name=""/>
            <p:cNvSpPr/>
            <p:nvPr/>
          </p:nvSpPr>
          <p:spPr>
            <a:xfrm>
              <a:off x="3564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91280" y="1873080"/>
              <a:ext cx="172692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20000" y="1873080"/>
              <a:ext cx="172728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000" y="2665440"/>
              <a:ext cx="3240000" cy="504720"/>
            </a:xfrm>
            <a:prstGeom prst="rect">
              <a:avLst/>
            </a:prstGeom>
            <a:solidFill>
              <a:srgbClr val="ddf4f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66"/>
                  </a:solidFill>
                  <a:latin typeface="Arial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4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91280" y="2665440"/>
              <a:ext cx="172692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20000" y="2665440"/>
              <a:ext cx="1727280" cy="504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7607160" y="2736720"/>
            <a:ext cx="642960" cy="35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269480" y="26622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6000" y="27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0120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19600" y="2681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+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11640" y="2765520"/>
            <a:ext cx="604800" cy="30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64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1280" y="1873080"/>
            <a:ext cx="172692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20000" y="1873080"/>
            <a:ext cx="172728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633680" y="3841560"/>
            <a:ext cx="3425760" cy="2763720"/>
            <a:chOff x="1633680" y="3841560"/>
            <a:chExt cx="3425760" cy="2763720"/>
          </a:xfrm>
        </p:grpSpPr>
        <p:sp>
          <p:nvSpPr>
            <p:cNvPr id="542" name=""/>
            <p:cNvSpPr/>
            <p:nvPr/>
          </p:nvSpPr>
          <p:spPr>
            <a:xfrm flipV="1">
              <a:off x="3975120" y="3841560"/>
              <a:ext cx="0" cy="276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33680" y="5459400"/>
              <a:ext cx="340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02240" y="542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88000" y="54230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76480" y="5408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60480" y="38466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09000" y="60609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94760" y="54230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21520" y="542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1773360"/>
            <a:ext cx="8424720" cy="3566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32  E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65530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4CC6-680F-4B24-B296-DD3F3839AD84}" type="datetime2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404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9760" y="51588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2671920" y="1981080"/>
          <a:ext cx="461484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1920" y="1981080"/>
                    <a:ext cx="4614840" cy="96516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Text Box 9"/>
          <p:cNvSpPr/>
          <p:nvPr/>
        </p:nvSpPr>
        <p:spPr>
          <a:xfrm>
            <a:off x="1695600" y="3446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3975120" y="3413160"/>
          <a:ext cx="2476440" cy="66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75120" y="3413160"/>
                    <a:ext cx="247644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1405080" y="5873760"/>
          <a:ext cx="151128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5080" y="5873760"/>
                    <a:ext cx="151128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Object 4"/>
          <p:cNvGraphicFramePr/>
          <p:nvPr/>
        </p:nvGraphicFramePr>
        <p:xfrm>
          <a:off x="3336840" y="5716440"/>
          <a:ext cx="1930320" cy="69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36840" y="5716440"/>
                    <a:ext cx="1930320" cy="6987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5688000" y="5721480"/>
          <a:ext cx="195588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88000" y="5721480"/>
                    <a:ext cx="195588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Text Box 14"/>
          <p:cNvSpPr/>
          <p:nvPr/>
        </p:nvSpPr>
        <p:spPr>
          <a:xfrm>
            <a:off x="1224000" y="476892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-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083040" y="458460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e with standar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7"/>
          <p:cNvCxnSpPr>
            <a:stCxn id="85" idx="3"/>
          </p:cNvCxnSpPr>
          <p:nvPr/>
        </p:nvCxnSpPr>
        <p:spPr>
          <a:xfrm flipV="1">
            <a:off x="5406840" y="2975760"/>
            <a:ext cx="1608840" cy="2025000"/>
          </a:xfrm>
          <a:prstGeom prst="bentConnector2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6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861840" y="14382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2527200" y="2243160"/>
          <a:ext cx="398952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2243160"/>
                    <a:ext cx="3989520" cy="642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3124080" y="3413160"/>
            <a:ext cx="25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e with standar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92280" y="4543560"/>
          <a:ext cx="147312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92280" y="4543560"/>
                    <a:ext cx="1473120" cy="431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3328920" y="4410000"/>
          <a:ext cx="1905120" cy="69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28920" y="4410000"/>
                    <a:ext cx="1905120" cy="6984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5499000" y="4435560"/>
          <a:ext cx="167652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99000" y="4435560"/>
                    <a:ext cx="1676520" cy="647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2965320" y="5845320"/>
          <a:ext cx="3111480" cy="660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65320" y="5845320"/>
                    <a:ext cx="3111480" cy="6602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Text Box 4"/>
          <p:cNvSpPr/>
          <p:nvPr/>
        </p:nvSpPr>
        <p:spPr>
          <a:xfrm>
            <a:off x="239760" y="515880"/>
            <a:ext cx="78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ther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98100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2744640" y="1981080"/>
          <a:ext cx="3672000" cy="6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4640" y="1981080"/>
                    <a:ext cx="3672000" cy="6541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1042920" y="3154320"/>
          <a:ext cx="146052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154320"/>
                    <a:ext cx="1460520" cy="4320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Object 4"/>
          <p:cNvGraphicFramePr/>
          <p:nvPr/>
        </p:nvGraphicFramePr>
        <p:xfrm>
          <a:off x="3851280" y="3021120"/>
          <a:ext cx="2527200" cy="69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1280" y="3021120"/>
                    <a:ext cx="2527200" cy="6984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2687760" y="3218040"/>
          <a:ext cx="977760" cy="30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7760" y="3218040"/>
                    <a:ext cx="97776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6456240" y="3027240"/>
          <a:ext cx="193356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56240" y="3027240"/>
                    <a:ext cx="193356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7"/>
          <p:cNvGraphicFramePr/>
          <p:nvPr/>
        </p:nvGraphicFramePr>
        <p:xfrm>
          <a:off x="1198440" y="4576680"/>
          <a:ext cx="156240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98440" y="4576680"/>
                    <a:ext cx="1562400" cy="495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2890800" y="4672080"/>
          <a:ext cx="1650960" cy="30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90800" y="4672080"/>
                    <a:ext cx="1650960" cy="3045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4670280" y="4519440"/>
          <a:ext cx="1752840" cy="609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70280" y="4519440"/>
                    <a:ext cx="175284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6553080" y="4519440"/>
          <a:ext cx="2362320" cy="609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53080" y="4519440"/>
                    <a:ext cx="236232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Object 11"/>
          <p:cNvGraphicFramePr/>
          <p:nvPr/>
        </p:nvGraphicFramePr>
        <p:xfrm>
          <a:off x="2909880" y="5600880"/>
          <a:ext cx="1473120" cy="609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6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09880" y="5600880"/>
                    <a:ext cx="14731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4662360" y="5600880"/>
          <a:ext cx="2632320" cy="63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662360" y="5600880"/>
                    <a:ext cx="2632320" cy="6332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Text Box 4"/>
          <p:cNvSpPr/>
          <p:nvPr/>
        </p:nvSpPr>
        <p:spPr>
          <a:xfrm>
            <a:off x="0" y="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0" y="981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2521080" y="2120760"/>
          <a:ext cx="336996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120760"/>
                    <a:ext cx="3369960" cy="5842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Object 3"/>
          <p:cNvGraphicFramePr/>
          <p:nvPr/>
        </p:nvGraphicFramePr>
        <p:xfrm>
          <a:off x="1042920" y="3141720"/>
          <a:ext cx="15112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141720"/>
                    <a:ext cx="1511280" cy="457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Object 4"/>
          <p:cNvGraphicFramePr/>
          <p:nvPr/>
        </p:nvGraphicFramePr>
        <p:xfrm>
          <a:off x="2757600" y="3238560"/>
          <a:ext cx="121896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57600" y="3238560"/>
                    <a:ext cx="121896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Object 5"/>
          <p:cNvGraphicFramePr/>
          <p:nvPr/>
        </p:nvGraphicFramePr>
        <p:xfrm>
          <a:off x="4178160" y="2982960"/>
          <a:ext cx="2248200" cy="74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78160" y="2982960"/>
                    <a:ext cx="2248200" cy="7491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6629400" y="3003480"/>
          <a:ext cx="1994040" cy="6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29400" y="3003480"/>
                    <a:ext cx="1994040" cy="6858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1017720" y="4083120"/>
          <a:ext cx="163800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17720" y="4083120"/>
                    <a:ext cx="1638000" cy="495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Object 8"/>
          <p:cNvGraphicFramePr/>
          <p:nvPr/>
        </p:nvGraphicFramePr>
        <p:xfrm>
          <a:off x="2774880" y="4186080"/>
          <a:ext cx="2057400" cy="304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74880" y="4186080"/>
                    <a:ext cx="2057400" cy="3049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Object 9"/>
          <p:cNvGraphicFramePr/>
          <p:nvPr/>
        </p:nvGraphicFramePr>
        <p:xfrm>
          <a:off x="4952880" y="4033800"/>
          <a:ext cx="1892520" cy="609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52880" y="4033800"/>
                    <a:ext cx="189252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10"/>
          <p:cNvGraphicFramePr/>
          <p:nvPr/>
        </p:nvGraphicFramePr>
        <p:xfrm>
          <a:off x="6964200" y="4044960"/>
          <a:ext cx="1498680" cy="60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64200" y="4044960"/>
                    <a:ext cx="149868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Object 11"/>
          <p:cNvGraphicFramePr/>
          <p:nvPr/>
        </p:nvGraphicFramePr>
        <p:xfrm>
          <a:off x="2957400" y="5025960"/>
          <a:ext cx="1752840" cy="609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57400" y="5025960"/>
                    <a:ext cx="175284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Object 12"/>
          <p:cNvGraphicFramePr/>
          <p:nvPr/>
        </p:nvGraphicFramePr>
        <p:xfrm>
          <a:off x="4791240" y="5024520"/>
          <a:ext cx="685800" cy="609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91240" y="5024520"/>
                    <a:ext cx="685800" cy="6094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Object 13"/>
          <p:cNvGraphicFramePr/>
          <p:nvPr/>
        </p:nvGraphicFramePr>
        <p:xfrm>
          <a:off x="2819520" y="5962680"/>
          <a:ext cx="2774880" cy="723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5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819520" y="5962680"/>
                    <a:ext cx="2774880" cy="723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0" y="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ng Composit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585800" y="677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982800" y="2343240"/>
          <a:ext cx="267156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2800" y="2343240"/>
                    <a:ext cx="2671560" cy="14968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Object 4"/>
          <p:cNvGraphicFramePr/>
          <p:nvPr/>
        </p:nvGraphicFramePr>
        <p:xfrm>
          <a:off x="6070680" y="2457360"/>
          <a:ext cx="2995560" cy="126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70680" y="2457360"/>
                    <a:ext cx="2995560" cy="12686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12"/>
          <p:cNvSpPr/>
          <p:nvPr/>
        </p:nvSpPr>
        <p:spPr>
          <a:xfrm>
            <a:off x="3651120" y="2490840"/>
            <a:ext cx="24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egration is opposite of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1036800" y="469116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1285920" y="5259240"/>
          <a:ext cx="2841480" cy="5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85920" y="5259240"/>
                    <a:ext cx="2841480" cy="5223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6361200" y="5294160"/>
          <a:ext cx="2192400" cy="45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61200" y="5294160"/>
                    <a:ext cx="2192400" cy="45252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4384800" y="5318280"/>
          <a:ext cx="1809720" cy="4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4800" y="5318280"/>
                    <a:ext cx="1809720" cy="404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6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224000" y="2162160"/>
            <a:ext cx="71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rom “reversing” the chain rule we can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360520" y="2886120"/>
          <a:ext cx="4875480" cy="14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886120"/>
                    <a:ext cx="4875480" cy="14716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Text Box 8"/>
          <p:cNvSpPr/>
          <p:nvPr/>
        </p:nvSpPr>
        <p:spPr>
          <a:xfrm>
            <a:off x="946080" y="4824360"/>
            <a:ext cx="28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ork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2286000" y="5564160"/>
          <a:ext cx="2424240" cy="534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564160"/>
                    <a:ext cx="2424240" cy="53496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4844880" y="5526000"/>
          <a:ext cx="231156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4880" y="5526000"/>
                    <a:ext cx="2311560" cy="609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1585800" y="677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682640" y="515880"/>
            <a:ext cx="57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tegrating Tri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76240" y="14335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2"/>
          <p:cNvGraphicFramePr/>
          <p:nvPr/>
        </p:nvGraphicFramePr>
        <p:xfrm>
          <a:off x="2076480" y="2162160"/>
          <a:ext cx="551808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162160"/>
                    <a:ext cx="5518080" cy="6494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5386320" y="3322800"/>
            <a:ext cx="29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pply the standard form (tw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1305000" y="4348080"/>
          <a:ext cx="434952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05000" y="4348080"/>
                    <a:ext cx="4349520" cy="619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5"/>
          <p:cNvGraphicFramePr/>
          <p:nvPr/>
        </p:nvGraphicFramePr>
        <p:xfrm>
          <a:off x="5870520" y="4357800"/>
          <a:ext cx="250200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70520" y="4357800"/>
                    <a:ext cx="2502000" cy="609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8"/>
          <p:cNvSpPr/>
          <p:nvPr/>
        </p:nvSpPr>
        <p:spPr>
          <a:xfrm>
            <a:off x="1857240" y="3338640"/>
            <a:ext cx="29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ak up into two easier integ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3-24T22:23:53Z</dcterms:modified>
  <cp:revision>47</cp:revision>
  <dc:subject/>
  <dc:title>Slide 1</dc:title>
</cp:coreProperties>
</file>